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61E-C2AD-419A-818F-D608B830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8C2-E17B-422D-AEB7-55DF2BCC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27F-7F9C-4000-BA4A-68655528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56A-F77B-4B1C-8E41-6D468C18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36F-54D4-4C67-9A0B-2FC927B8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1F3-4819-495C-9E33-4EB1CD9F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D574-E9E5-455D-B783-AA540668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993-1D0D-42D0-91DA-3F78069C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EAB9-9F71-4D3A-81E6-C9A88223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92B-B90C-4BD3-B0FE-30647116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B75-EA88-44F6-AA36-4E820E66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B1D-04E3-4B03-A102-F4B4AB5F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D1C9-ABB6-468C-955E-9635F328E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6400" y="1870200"/>
            <a:ext cx="2743200" cy="2793960"/>
            <a:chOff x="536400" y="1870200"/>
            <a:chExt cx="2743200" cy="2793960"/>
          </a:xfrm>
        </p:grpSpPr>
        <p:sp>
          <p:nvSpPr>
            <p:cNvPr id="42" name=""/>
            <p:cNvSpPr/>
            <p:nvPr/>
          </p:nvSpPr>
          <p:spPr>
            <a:xfrm>
              <a:off x="536400" y="1870200"/>
              <a:ext cx="12193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OR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καταγραφή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παιτήσεων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98640" y="1882800"/>
              <a:ext cx="1380960" cy="74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ED,</a:t>
              </a: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 ανάλυση και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προσδιορισμός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προδιαγραφών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08000" y="2787480"/>
              <a:ext cx="1371600" cy="103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ρχική ανάλυση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βασικών λειτουργιών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τους συστήματο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put, Out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e-conditions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ost-condition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6400" y="2657520"/>
              <a:ext cx="121932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Πρότυπη ανάλυση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(αρχικές ιδέες από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προηγούμενη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εμπειρία κατασκευής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6400" y="3581280"/>
              <a:ext cx="12099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νάλυση κινδύνων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6400" y="4016520"/>
              <a:ext cx="12193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Οργάνωση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ομάδα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νάπτυξη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27080" y="3978360"/>
              <a:ext cx="134316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ρχική επιλογή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ρχιτεκτονικής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(βάσει λειτουργικών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ιδιοτήτων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619440" y="533520"/>
            <a:ext cx="1981440" cy="2361960"/>
          </a:xfrm>
          <a:prstGeom prst="ellipse">
            <a:avLst/>
          </a:prstGeom>
          <a:solidFill>
            <a:srgbClr val="b2b2b2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733320"/>
            <a:ext cx="1175040" cy="46368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Μακροσκοπική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κύρια υποσυστήματ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76560" y="1330200"/>
            <a:ext cx="1175040" cy="66528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Μικροσκοπική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οργάνωση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υποσυστημάτω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σε τμήματ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67120" y="2057400"/>
            <a:ext cx="1449360" cy="66528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Εσωτερική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οργάνωση τμημάτω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σε τεμάχια υλοποίηση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029120" y="428760"/>
            <a:ext cx="1219320" cy="30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990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Αρχιτεκτονική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593640"/>
            <a:ext cx="1905120" cy="1067040"/>
          </a:xfrm>
          <a:prstGeom prst="ellipse">
            <a:avLst/>
          </a:prstGeom>
          <a:solidFill>
            <a:srgbClr val="b2b2b2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324480" y="441360"/>
            <a:ext cx="186696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990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Μοντελοποίηση δεδομένων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38920" y="641520"/>
            <a:ext cx="924120" cy="46656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/R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19840" y="1155600"/>
            <a:ext cx="924120" cy="46692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agra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99280" y="2057400"/>
            <a:ext cx="1904760" cy="1066680"/>
          </a:xfrm>
          <a:prstGeom prst="ellipse">
            <a:avLst/>
          </a:prstGeom>
          <a:solidFill>
            <a:srgbClr val="b2b2b2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603840" y="1981080"/>
            <a:ext cx="1219320" cy="152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990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Δομική ανάλυση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04000" y="2114640"/>
            <a:ext cx="924120" cy="46656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uctur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ar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2160" y="2619360"/>
            <a:ext cx="923760" cy="46692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08640" y="3521160"/>
            <a:ext cx="1905120" cy="1066680"/>
          </a:xfrm>
          <a:prstGeom prst="ellipse">
            <a:avLst/>
          </a:prstGeom>
          <a:solidFill>
            <a:srgbClr val="b2b2b2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61280" y="3444840"/>
            <a:ext cx="16002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990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Λειτουργική σχεδίαση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4920" y="3568680"/>
            <a:ext cx="924120" cy="46692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ar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4000" y="4073400"/>
            <a:ext cx="924120" cy="46692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eu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59400" y="5118120"/>
            <a:ext cx="1905120" cy="1066680"/>
          </a:xfrm>
          <a:prstGeom prst="ellipse">
            <a:avLst/>
          </a:prstGeom>
          <a:solidFill>
            <a:srgbClr val="b2b2b2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359400" y="5013360"/>
            <a:ext cx="1886040" cy="5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990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Συμπεριφεριολογική ανάλυση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4760" y="5146560"/>
            <a:ext cx="924120" cy="46692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ar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92920" y="5661000"/>
            <a:ext cx="923760" cy="46692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use/eff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5120" y="3260880"/>
            <a:ext cx="1962360" cy="2847960"/>
          </a:xfrm>
          <a:prstGeom prst="ellipse">
            <a:avLst/>
          </a:prstGeom>
          <a:solidFill>
            <a:srgbClr val="b2b2b2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19400" y="3517920"/>
            <a:ext cx="1200240" cy="41904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ts test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ystems te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95720" y="4013280"/>
            <a:ext cx="1066680" cy="30456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Συναρτήσεις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/AP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05440" y="4403880"/>
            <a:ext cx="1066680" cy="30456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Κλάσεις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, API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05440" y="4794120"/>
            <a:ext cx="1066680" cy="30492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Δομές δεδομένων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33880" y="5165640"/>
            <a:ext cx="1085760" cy="33336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Αλγόριθμοι 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ροή ελέγχου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33880" y="5575320"/>
            <a:ext cx="1066680" cy="324000"/>
          </a:xfrm>
          <a:prstGeom prst="ellipse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Κατάτμηση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ack boxes</a:t>
            </a:r>
            <a:r>
              <a:rPr b="1" lang="el-GR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105440" y="3137040"/>
            <a:ext cx="1171440" cy="2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3990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Πηγαίος κώδικας</a:t>
            </a:r>
            <a:endParaRPr b="0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cxnSp>
        <p:nvCxnSpPr>
          <p:cNvPr id="78" name=""/>
          <p:cNvCxnSpPr>
            <a:stCxn id="42" idx="0"/>
            <a:endCxn id="43" idx="0"/>
          </p:cNvCxnSpPr>
          <p:nvPr/>
        </p:nvCxnSpPr>
        <p:spPr>
          <a:xfrm flipH="1" rot="16200000">
            <a:off x="1861200" y="1154520"/>
            <a:ext cx="12960" cy="1443600"/>
          </a:xfrm>
          <a:prstGeom prst="curvedConnector3">
            <a:avLst>
              <a:gd name="adj1" fmla="val -514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3" idx="1"/>
            <a:endCxn id="42" idx="3"/>
          </p:cNvCxnSpPr>
          <p:nvPr/>
        </p:nvCxnSpPr>
        <p:spPr>
          <a:xfrm flipH="1" flipV="1">
            <a:off x="1755720" y="2174760"/>
            <a:ext cx="14328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43" idx="3"/>
            <a:endCxn id="44" idx="3"/>
          </p:cNvCxnSpPr>
          <p:nvPr/>
        </p:nvCxnSpPr>
        <p:spPr>
          <a:xfrm>
            <a:off x="3279600" y="2254320"/>
            <a:ext cx="360" cy="1052640"/>
          </a:xfrm>
          <a:prstGeom prst="curvedConnector3">
            <a:avLst>
              <a:gd name="adj1" fmla="val 25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44" idx="0"/>
            <a:endCxn id="43" idx="2"/>
          </p:cNvCxnSpPr>
          <p:nvPr/>
        </p:nvCxnSpPr>
        <p:spPr>
          <a:xfrm flipV="1" rot="16200000">
            <a:off x="2510640" y="2703960"/>
            <a:ext cx="162000" cy="50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44" idx="1"/>
            <a:endCxn id="45" idx="3"/>
          </p:cNvCxnSpPr>
          <p:nvPr/>
        </p:nvCxnSpPr>
        <p:spPr>
          <a:xfrm rot="10800000">
            <a:off x="1755360" y="3038040"/>
            <a:ext cx="152640" cy="26856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44" idx="1"/>
            <a:endCxn id="46" idx="3"/>
          </p:cNvCxnSpPr>
          <p:nvPr/>
        </p:nvCxnSpPr>
        <p:spPr>
          <a:xfrm flipV="1" rot="10800000">
            <a:off x="1746000" y="3306600"/>
            <a:ext cx="162000" cy="42732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46" idx="0"/>
            <a:endCxn id="45" idx="2"/>
          </p:cNvCxnSpPr>
          <p:nvPr/>
        </p:nvCxnSpPr>
        <p:spPr>
          <a:xfrm flipH="1" flipV="1" rot="5400000">
            <a:off x="1062360" y="3498120"/>
            <a:ext cx="162360" cy="50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6" idx="1"/>
            <a:endCxn id="42" idx="1"/>
          </p:cNvCxnSpPr>
          <p:nvPr/>
        </p:nvCxnSpPr>
        <p:spPr>
          <a:xfrm rot="10800000">
            <a:off x="536400" y="2174760"/>
            <a:ext cx="360" cy="1559160"/>
          </a:xfrm>
          <a:prstGeom prst="curvedConnector3">
            <a:avLst>
              <a:gd name="adj1" fmla="val -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46" idx="2"/>
            <a:endCxn id="47" idx="0"/>
          </p:cNvCxnSpPr>
          <p:nvPr/>
        </p:nvCxnSpPr>
        <p:spPr>
          <a:xfrm flipH="1" rot="16200000">
            <a:off x="1078200" y="3948840"/>
            <a:ext cx="130680" cy="50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44" idx="2"/>
            <a:endCxn id="47" idx="0"/>
          </p:cNvCxnSpPr>
          <p:nvPr/>
        </p:nvCxnSpPr>
        <p:spPr>
          <a:xfrm rot="5400000">
            <a:off x="1774440" y="3197160"/>
            <a:ext cx="191160" cy="144828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48" idx="2"/>
            <a:endCxn id="47" idx="2"/>
          </p:cNvCxnSpPr>
          <p:nvPr/>
        </p:nvCxnSpPr>
        <p:spPr>
          <a:xfrm flipV="1" rot="16200000">
            <a:off x="1852920" y="3918600"/>
            <a:ext cx="38520" cy="1452960"/>
          </a:xfrm>
          <a:prstGeom prst="curvedConnector3">
            <a:avLst>
              <a:gd name="adj1" fmla="val -2443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48" idx="3"/>
            <a:endCxn id="50" idx="2"/>
          </p:cNvCxnSpPr>
          <p:nvPr/>
        </p:nvCxnSpPr>
        <p:spPr>
          <a:xfrm flipV="1">
            <a:off x="3270240" y="965160"/>
            <a:ext cx="706680" cy="3356280"/>
          </a:xfrm>
          <a:prstGeom prst="curvedConnector3">
            <a:avLst>
              <a:gd name="adj1" fmla="val 325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65" idx="4"/>
            <a:endCxn id="74" idx="6"/>
          </p:cNvCxnSpPr>
          <p:nvPr/>
        </p:nvCxnSpPr>
        <p:spPr>
          <a:xfrm flipH="1">
            <a:off x="5172120" y="4540320"/>
            <a:ext cx="2094480" cy="40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1" name=""/>
          <p:cNvSpPr/>
          <p:nvPr/>
        </p:nvSpPr>
        <p:spPr>
          <a:xfrm rot="20875800">
            <a:off x="5948280" y="4651200"/>
            <a:ext cx="92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</a:rPr>
              <a:t>ενδοτμηματικ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65" idx="2"/>
            <a:endCxn id="70" idx="6"/>
          </p:cNvCxnSpPr>
          <p:nvPr/>
        </p:nvCxnSpPr>
        <p:spPr>
          <a:xfrm flipH="1">
            <a:off x="5667480" y="4307040"/>
            <a:ext cx="1136880" cy="37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3" name=""/>
          <p:cNvCxnSpPr>
            <a:stCxn id="65" idx="2"/>
            <a:endCxn id="49" idx="5"/>
          </p:cNvCxnSpPr>
          <p:nvPr/>
        </p:nvCxnSpPr>
        <p:spPr>
          <a:xfrm flipH="1" flipV="1">
            <a:off x="5310720" y="2549880"/>
            <a:ext cx="1493640" cy="1757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4" name=""/>
          <p:cNvCxnSpPr>
            <a:stCxn id="61" idx="2"/>
            <a:endCxn id="49" idx="6"/>
          </p:cNvCxnSpPr>
          <p:nvPr/>
        </p:nvCxnSpPr>
        <p:spPr>
          <a:xfrm flipH="1" flipV="1">
            <a:off x="5600880" y="1714680"/>
            <a:ext cx="1241640" cy="1138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5" name=""/>
          <p:cNvSpPr/>
          <p:nvPr/>
        </p:nvSpPr>
        <p:spPr>
          <a:xfrm rot="3135600">
            <a:off x="5480280" y="2999880"/>
            <a:ext cx="860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</a:rPr>
              <a:t>ποια τμήματα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584800">
            <a:off x="5773680" y="20376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</a:rPr>
              <a:t>πως συνδέοντα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56" idx="2"/>
            <a:endCxn id="74" idx="0"/>
          </p:cNvCxnSpPr>
          <p:nvPr/>
        </p:nvCxnSpPr>
        <p:spPr>
          <a:xfrm flipH="1">
            <a:off x="4638960" y="874800"/>
            <a:ext cx="2200320" cy="3919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8" name=""/>
          <p:cNvSpPr/>
          <p:nvPr/>
        </p:nvSpPr>
        <p:spPr>
          <a:xfrm rot="17872200">
            <a:off x="5905800" y="1263960"/>
            <a:ext cx="143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</a:rPr>
              <a:t>διατμηματικά, εξωτερικά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57" idx="4"/>
            <a:endCxn id="74" idx="0"/>
          </p:cNvCxnSpPr>
          <p:nvPr/>
        </p:nvCxnSpPr>
        <p:spPr>
          <a:xfrm flipH="1">
            <a:off x="4638960" y="1622520"/>
            <a:ext cx="2643480" cy="3171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57" idx="4"/>
            <a:endCxn id="51" idx="6"/>
          </p:cNvCxnSpPr>
          <p:nvPr/>
        </p:nvCxnSpPr>
        <p:spPr>
          <a:xfrm flipH="1">
            <a:off x="5151600" y="1622520"/>
            <a:ext cx="2130840" cy="40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1" name=""/>
          <p:cNvCxnSpPr>
            <a:stCxn id="57" idx="4"/>
            <a:endCxn id="52" idx="6"/>
          </p:cNvCxnSpPr>
          <p:nvPr/>
        </p:nvCxnSpPr>
        <p:spPr>
          <a:xfrm flipH="1">
            <a:off x="5316480" y="1622520"/>
            <a:ext cx="1965960" cy="767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2" name=""/>
          <p:cNvSpPr/>
          <p:nvPr/>
        </p:nvSpPr>
        <p:spPr>
          <a:xfrm rot="67800">
            <a:off x="5540760" y="1438200"/>
            <a:ext cx="73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900" spc="-1" strike="noStrike">
                <a:solidFill>
                  <a:srgbClr val="000000"/>
                </a:solidFill>
                <a:latin typeface="Times New Roman"/>
              </a:rPr>
              <a:t>κατάτμησ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66" idx="2"/>
            <a:endCxn id="71" idx="4"/>
          </p:cNvCxnSpPr>
          <p:nvPr/>
        </p:nvCxnSpPr>
        <p:spPr>
          <a:xfrm flipH="1" flipV="1">
            <a:off x="4619520" y="3936960"/>
            <a:ext cx="1740240" cy="1715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68" idx="2"/>
            <a:endCxn id="75" idx="6"/>
          </p:cNvCxnSpPr>
          <p:nvPr/>
        </p:nvCxnSpPr>
        <p:spPr>
          <a:xfrm flipH="1" flipV="1">
            <a:off x="5219640" y="5332320"/>
            <a:ext cx="1635480" cy="4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64" idx="2"/>
            <a:endCxn id="75" idx="0"/>
          </p:cNvCxnSpPr>
          <p:nvPr/>
        </p:nvCxnSpPr>
        <p:spPr>
          <a:xfrm flipH="1">
            <a:off x="4676760" y="3802320"/>
            <a:ext cx="2108520" cy="136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6" name=""/>
          <p:cNvCxnSpPr>
            <a:stCxn id="60" idx="3"/>
            <a:endCxn id="76" idx="6"/>
          </p:cNvCxnSpPr>
          <p:nvPr/>
        </p:nvCxnSpPr>
        <p:spPr>
          <a:xfrm flipH="1">
            <a:off x="5200560" y="2513160"/>
            <a:ext cx="1739160" cy="322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7" name=""/>
          <p:cNvSpPr/>
          <p:nvPr/>
        </p:nvSpPr>
        <p:spPr>
          <a:xfrm>
            <a:off x="669600" y="5772240"/>
            <a:ext cx="16484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Verdana"/>
              </a:rPr>
              <a:t>ΗΥ35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Verdana"/>
              </a:rPr>
              <a:t>Διδάσκων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l-GR" sz="1000" spc="-1" strike="noStrike">
                <a:solidFill>
                  <a:srgbClr val="000000"/>
                </a:solidFill>
                <a:latin typeface="Verdana"/>
              </a:rPr>
              <a:t>Α. Σαββίδη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3:48:37Z</dcterms:created>
  <dc:creator>as</dc:creator>
  <dc:description/>
  <dc:language>en-US</dc:language>
  <cp:lastModifiedBy>Anhony Savidis</cp:lastModifiedBy>
  <dcterms:modified xsi:type="dcterms:W3CDTF">2004-03-24T13:02:26Z</dcterms:modified>
  <cp:revision>34</cp:revision>
  <dc:subject/>
  <dc:title>PowerPoint Presentation</dc:title>
</cp:coreProperties>
</file>